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2D9-DE04-4ED3-8370-9E2EC2AC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2DA-66F3-4142-B47A-3E88823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248-116B-402D-8A43-6530D3B8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87F-A27D-4567-88CE-7C946193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39F-DD29-4E1D-8B16-18D1AEBE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7EC-124E-480C-BFB0-B810402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7B74-1808-4FC2-AE68-AA64473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33E-6CA9-40BD-A3D7-F6E383D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6326-6D33-4AF3-90BC-38F4BD7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8084-DE6E-4044-AE20-D39F9D41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A41A-6D2E-4CD1-A42E-39C4AB06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3F2-3709-49D7-BD11-51F68C1B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622-B788-44DB-B1C8-77618BD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175-39C7-4082-8139-EBA041F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A2D4-FDAE-4DF4-9102-5D5EF55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BC3-EB6E-4DA5-A6E3-E737505B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454-0793-4EC9-85EB-A4476513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905-C8F4-4EFA-8D02-1A90CFCA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8B2-3284-4172-9059-6EE74CAA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E2B-2887-405A-A259-D3004AAF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C70-55A1-4EAC-BB5B-52DF0695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F62-1C5C-43C9-B67A-CF96A144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B04-425A-4622-A508-67F761D6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394-9F26-4095-B510-260CD325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A61-9CB6-44E1-9567-8AD2957C5B5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AF4-6E00-4AAF-A241-7FE0F0350F4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Go Tell The Good News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Journey Begins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5640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Quarter 11, Lesson 13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cts 13:33-52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ages 74-78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3D2-F101-4282-9559-3E7A967FDF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aul’s Speech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’s speech consisted of three section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srael’s history led them to the Christ   (vs 17-25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od fulfilled His promises to Israel by raising Jesus from the dead (vs 26-37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n Jesus alone is forgiveness and justification (vs 38-41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2FB-43DE-4646-9666-EEED4524AEDC}" type="slidenum">
              <a:t>10</a:t>
            </a:fld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40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chose Israel’s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led them out of Egyp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the land of Canaan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judg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He gave them a king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rom David’s descendants He brought forth a savior,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0C3-3C36-43C1-8C88-77284C164757}" type="slidenum">
              <a:t>11</a:t>
            </a:fld>
          </a:p>
        </p:txBody>
      </p:sp>
    </p:spTree>
  </p:cSld>
  <p:transition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40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ish leaders did not accept Jesus as the Christ and killed Him, fulfilling prophecy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od raised Jesus from the d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all this, God fulfilled His promises to the father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096-E33F-4E60-A30A-69B979D9E26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ul’s Speech </a:t>
            </a:r>
            <a:br>
              <a:rPr sz="36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cts 13:16-41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ough Jesus, remission of sins is preach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l who believe on Him can be justifi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eware how you hear lest you disbelieve as they did in Habbakuk’s day, and also like their brethren in Judea who rejected Jes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EDB-B1B9-4445-BF9C-C5B23E14DF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mpact of Paul’s Speech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2-43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Both Jews and God-fearing Gentiles were in the assembly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he people were excited and asked Paul and Barnabas to speak again the next Sabbath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ny of the Jews and devout proselytes followed them, and Paul and Barnabas persuaded them furth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 continue in God’s grace, they needed to believe and obey the message they had hear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574-5F6A-4264-9B69-A6586B311913}" type="slidenum">
              <a:t>14</a:t>
            </a:fld>
          </a:p>
        </p:txBody>
      </p:sp>
    </p:spTree>
  </p:cSld>
  <p:transition>
    <p:cover dir="r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lmost the whole city came to hear Paul and Barnaba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were filled with jealousy and began blaspheming and contradicting P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Jews rejected the message so Paul and Barnabas turned to the Gentile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430-0E9E-4D9F-82E7-216C48C650B2}" type="slidenum">
              <a:t>15</a:t>
            </a:fld>
          </a:p>
        </p:txBody>
      </p:sp>
    </p:spTree>
  </p:cSld>
  <p:transition>
    <p:cover dir="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fter this, the Jews stirred up the leaders of the city and had Paul and Barnabas expelle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brushed the dust off their feet against them and moved on to Iconium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ut those who had been converted were filled with joy and the Holy Spiri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4C4-8F7D-478F-B7B8-EE294B4333EB}" type="slidenum">
              <a:t>16</a:t>
            </a:fld>
          </a:p>
        </p:txBody>
      </p:sp>
    </p:spTree>
  </p:cSld>
  <p:transition>
    <p:diamond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vents of The Following Sabbath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4-5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Gentiles rejoiced at the hope of salvation and the word of God sprea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told the Jews that they had judged themselves unworthy of eternal lif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dded “this is what the Lord commanded us when He said ‘I have set you for a light to the Gentiles that you may bring salvation to the ends of the earth’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AC5-AAF0-4BCA-BF76-DEBD0C1C1C83}" type="slidenum">
              <a:t>17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rst, let’s review the end of the last lesson..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...the beginning of the first missionary journey by Barnabas and Paul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5E4-0A9F-40EC-9FE2-18AD407A06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-3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five men who worked as prophets and teachers at Antioch - Barnabas, Simeon, Lucius, Manaen, and Sau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naen was a childhood companion of Herod Antipas who beheaded John the Baptist and who Jesus appeared before during His trial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Holy Spirit said, “Separate to me Barnabas and Saul for the work to which I have called them”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4F3-084E-484E-8EB1-41FDEE6EBD0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4-5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46784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uided by the Holy Spirit, Barnabas and Saul went down to Selucia, and from there sailed to Cyprus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ts chief cities were Salamis and Paphos - on opposite ends of the islan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 Salamis, they preached the word of God to the Jews having John Mark as a helper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3C4-6DBF-49CD-8524-AE70D30659E5}" type="slidenum">
              <a:t>4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6-8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2320" y="159840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t Paphos, they found a sorcerer, a false prophet, a Jew, named Bar-Jesus (also, Elymas)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ar-Jesus had attached himself to Sergius Paulus, proconsul of the island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rgius Paulus was an intelligent man who called for Barnabas and Saul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ar-Jesus withstood them, trying to turn the proconsul away from the faith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24D-4B72-42C2-830A-DA0D2E7A07A1}" type="slidenum">
              <a:t>5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The First Missionary Journey</a:t>
            </a:r>
            <a:br>
              <a:rPr sz="32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9-12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598400"/>
            <a:ext cx="73915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aul, hereafter called Paul,  filled with the Holy Spirit, looked intently at him and said: 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O full of all deceit and fraud, you son of the devil, you enemy of all righteousness, will you not cease perverting the right ways of God?” 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mmediately a dark mist fell on him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n the proconsul believed, being astonished at the teaching of the Lord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A79-ADA5-4D85-BCD1-A884178436B3}" type="slidenum">
              <a:t>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248520" y="4038480"/>
            <a:ext cx="1143000" cy="533520"/>
          </a:xfrm>
          <a:prstGeom prst="ellipse">
            <a:avLst/>
          </a:prstGeom>
          <a:noFill/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ADB-F850-4552-86DA-1AB5AB8ED221}" type="slidenum">
              <a:t>7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77778E-007 -4.81481E-006 C 0.01302 0.00556 0.0257 0.01158 0.03872 0.01713 C 0.03889 0.01713 0.0507 0.02246 0.0533 0.02361 C 0.05643 0.025 0.06285 0.02801 0.06285 0.02801 C 0.06337 0.0301 0.06407 0.03241 0.06459 0.03449 C 0.06563 0.03866 0.06771 0.04722 0.06771 0.04722 C 0.06667 0.05371 0.06459 0.06667 0.06459 0.06667 E">
                                      <p:cBhvr>
                                        <p:cTn id="13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6459 0.0669 C 0.05504 0.07523 0.04983 0.08634 0.04132 0.09629 C 0.03872 0.10717 0.04219 0.09745 0.03542 0.10555 C 0.02431 0.11852 0.04063 0.10416 0.02761 0.11481 C 0.01754 0.13333 -0.00555 0.15046 -0.02291 0.15717 C -0.03055 0.16342 -0.03889 0.1662 -0.04757 0.16852 C -0.05277 0.16967 -0.05659 0.17407 -0.06128 0.17592 C -0.07413 0.18009 -0.08958 0.18148 -0.10277 0.18333 C -0.11302 0.18194 -0.12343 0.18148 -0.1335 0.17963 C -0.14045 0.17824 -0.14357 0.16921 -0.15034 0.16643 C -0.15538 0.1625 -0.16007 0.16342 -0.1625 0.15717 E">
                                      <p:cBhvr>
                                        <p:cTn id="137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17083 0.16597 C -0.17309 0.16875 -0.17517 0.17153 -0.17743 0.17453 C -0.18125 0.17986 -0.17899 0.1875 -0.18055 0.19375 C -0.18125 0.19768 -0.18697 0.20833 -0.1901 0.21134 C -0.19305 0.21412 -0.19722 0.21551 -0.20104 0.21713 C -0.20416 0.21852 -0.21059 0.22014 -0.21059 0.22014 C -0.21631 0.22361 -0.2217 0.22407 -0.22812 0.22592 C -0.23836 0.22523 -0.26753 0.23264 -0.26753 0.21574 E">
                                      <p:cBhvr>
                                        <p:cTn id="140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86200" y="5638680"/>
            <a:ext cx="1066680" cy="381240"/>
          </a:xfrm>
          <a:prstGeom prst="ellipse">
            <a:avLst/>
          </a:prstGeom>
          <a:noFill/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768-B4D5-4927-A459-0725D9CEF90C}" type="slidenum">
              <a:t>8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8.33333E-007 -3.7037E-007 C -0.00938 -0.01643 -0.02587 -0.01898 -0.03872 -0.03009 C -0.04671 -0.04606 -0.04271 -0.03889 -0.05 -0.05162 C -0.05243 -0.06134 -0.05712 -0.06898 -0.06129 -0.07731 C -0.06424 -0.0831 -0.06476 -0.09074 -0.06771 -0.09676 C -0.06719 -0.12824 -0.06737 -0.15995 -0.06615 -0.19143 C -0.06493 -0.22477 -0.06007 -0.25926 -0.05816 -0.29259 C -0.0573 -0.30833 -0.05834 -0.31852 -0.04844 -0.32685 C -0.04688 -0.32963 -0.04601 -0.33403 -0.04358 -0.33542 C -0.03889 -0.33819 -0.0323 -0.33032 -0.0323 -0.32477 E">
                                      <p:cBhvr>
                                        <p:cTn id="153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323 -0.32476 C -0.02761 -0.35046 -0.02344 -0.37615 -0.02101 -0.40231 C -0.02206 -0.42014 -0.0224 -0.43819 -0.02431 -0.45601 C -0.02466 -0.45995 -0.03334 -0.47731 -0.03386 -0.47754 C -0.04219 -0.4831 -0.03837 -0.48009 -0.04532 -0.48611 C -0.05331 -0.50833 -0.04237 -0.4824 -0.05487 -0.49907 C -0.05608 -0.50069 -0.05539 -0.50393 -0.0566 -0.50555 C -0.05834 -0.50787 -0.06094 -0.50833 -0.06303 -0.50972 C -0.06407 -0.5118 -0.06615 -0.5162 -0.06615 -0.5162 E">
                                      <p:cBhvr>
                                        <p:cTn id="156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In Antioch of Pisidia</a:t>
            </a:r>
            <a:br>
              <a:rPr sz="36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cts 13:13-15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his companions sailed north from Cyprus to Perg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John Mark returns to Jerusalem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rk “…went not with them to the work”  (Acts 15:38)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aul and Barnabas travel on to Antioch of Pisidia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y are there invited to speak in the synagogue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846-D55D-4935-809F-CF4478414899}" type="slidenum">
              <a:t>9</a:t>
            </a:fld>
          </a:p>
        </p:txBody>
      </p:sp>
    </p:spTree>
  </p:cSld>
  <p:transition>
    <p:checker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20:58:51Z</dcterms:created>
  <dc:creator>billy lauderdale</dc:creator>
  <dc:description/>
  <dc:language>en-US</dc:language>
  <cp:lastModifiedBy>Frank D Vines</cp:lastModifiedBy>
  <dcterms:modified xsi:type="dcterms:W3CDTF">2007-02-21T21:03:58Z</dcterms:modified>
  <cp:revision>30</cp:revision>
  <dc:subject/>
  <dc:title>Go Tell The Good News “The Journey Begins”</dc:title>
</cp:coreProperties>
</file>